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gif" ContentType="image/gif"/>
  <Override PartName="/ppt/media/image1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9.jpeg" ContentType="image/jpeg"/>
  <Override PartName="/ppt/media/image10.wmf" ContentType="image/x-wm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682F-0F5C-44E7-BF3A-44BCB984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36C6-9774-4B47-A557-DFB2F6E2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9DDF-EAB9-425E-8268-31D38E5D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5509-DE9B-4EFC-B8E7-91CB7EBB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9138-C821-42DA-92B7-74285AAB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C72E-B6C7-458F-96D1-01C5C9C3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0E4E-3140-4B75-B0D3-1C405EFC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797B-2626-4381-9041-4F84FD43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C5B1-237E-4326-92A6-39A763B2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1B73-B8F5-4712-84F3-C8308802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B4F4-7A51-4148-8CFA-3C4D1DFB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78D2-C34D-471D-86A9-3B94C4EF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3C2D-B799-4944-9165-551D6413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F472-260F-40D8-99E2-1B3C3EFE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E0EA-DC79-487C-87D9-152B225F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984C-3792-4298-A92B-58A73EA9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E4E9-49FF-4A05-85CF-4EE9D508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60AA-BD8B-45B4-9965-D3C9B846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AD94-6F49-40E5-871C-75A788CE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D489-C235-4C45-8108-F8040E1D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33B3-847F-4A66-B174-FCEB87F9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436D-4AFF-4963-8BF3-6F8BE02B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7183-F563-460B-80D6-64C2E333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FFB9-7A80-4652-A657-2160439B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64A1-1B6F-4D88-A9AF-BF0100718201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F3BE-E030-4269-A084-43DF967A2601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124080" y="685800"/>
            <a:ext cx="2667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Weather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1" name="032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44197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1116360"/>
            <a:ext cx="737856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1905120"/>
            <a:ext cx="624852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Good-bye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7" name="118" descr=""/>
          <p:cNvPicPr/>
          <p:nvPr/>
        </p:nvPicPr>
        <p:blipFill>
          <a:blip r:embed="rId1"/>
          <a:stretch/>
        </p:blipFill>
        <p:spPr>
          <a:xfrm>
            <a:off x="5562720" y="762120"/>
            <a:ext cx="4765680" cy="6264000"/>
          </a:xfrm>
          <a:prstGeom prst="rect">
            <a:avLst/>
          </a:prstGeom>
          <a:ln w="0">
            <a:noFill/>
          </a:ln>
        </p:spPr>
      </p:pic>
      <p:pic>
        <p:nvPicPr>
          <p:cNvPr id="328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  <p:pic>
        <p:nvPicPr>
          <p:cNvPr id="329" name="SO00483_" descr=""/>
          <p:cNvPicPr/>
          <p:nvPr/>
        </p:nvPicPr>
        <p:blipFill>
          <a:blip r:embed="rId3"/>
          <a:stretch/>
        </p:blipFill>
        <p:spPr>
          <a:xfrm>
            <a:off x="8153280" y="0"/>
            <a:ext cx="741600" cy="657360"/>
          </a:xfrm>
          <a:prstGeom prst="rect">
            <a:avLst/>
          </a:prstGeom>
          <a:ln w="0">
            <a:noFill/>
          </a:ln>
        </p:spPr>
      </p:pic>
      <p:pic>
        <p:nvPicPr>
          <p:cNvPr id="330" name="FD00306_" descr=""/>
          <p:cNvPicPr/>
          <p:nvPr/>
        </p:nvPicPr>
        <p:blipFill>
          <a:blip r:embed="rId4"/>
          <a:stretch/>
        </p:blipFill>
        <p:spPr>
          <a:xfrm>
            <a:off x="762120" y="4191120"/>
            <a:ext cx="4043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visio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Yes . I’d like to bye two tickets for Shanghai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. ________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Next Friday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Let me see. FlighCA982____________.     There are still tickets for you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. __________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4" name="TR00116_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849600" cy="1268280"/>
          </a:xfrm>
          <a:prstGeom prst="rect">
            <a:avLst/>
          </a:prstGeom>
          <a:ln w="0">
            <a:noFill/>
          </a:ln>
        </p:spPr>
      </p:pic>
      <p:pic>
        <p:nvPicPr>
          <p:cNvPr id="295" name="BL00526_" descr=""/>
          <p:cNvPicPr/>
          <p:nvPr/>
        </p:nvPicPr>
        <p:blipFill>
          <a:blip r:embed="rId2"/>
          <a:stretch/>
        </p:blipFill>
        <p:spPr>
          <a:xfrm>
            <a:off x="6400800" y="4952880"/>
            <a:ext cx="2743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w word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lovel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old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ot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sh          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i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y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n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可爱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冷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热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钓鱼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他（ 宾格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再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晴朗的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lovely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44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It’s a lovely day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Yes, it is. Nice and sunny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791320" y="2214360"/>
            <a:ext cx="29764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NA01064_" descr=""/>
          <p:cNvPicPr/>
          <p:nvPr/>
        </p:nvPicPr>
        <p:blipFill>
          <a:blip r:embed="rId1"/>
          <a:stretch/>
        </p:blipFill>
        <p:spPr>
          <a:xfrm>
            <a:off x="5383080" y="1600200"/>
            <a:ext cx="3760920" cy="4040280"/>
          </a:xfrm>
          <a:prstGeom prst="rect">
            <a:avLst/>
          </a:prstGeom>
          <a:ln w="0">
            <a:noFill/>
          </a:ln>
        </p:spPr>
      </p:pic>
      <p:pic>
        <p:nvPicPr>
          <p:cNvPr id="303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cold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981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It’s cold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Yes 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40160" y="23619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SO00305_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159360" cy="3460680"/>
          </a:xfrm>
          <a:prstGeom prst="rect">
            <a:avLst/>
          </a:prstGeom>
          <a:ln w="0">
            <a:noFill/>
          </a:ln>
        </p:spPr>
      </p:pic>
      <p:pic>
        <p:nvPicPr>
          <p:cNvPr id="308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ho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It’s hot,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isn’t it</a:t>
            </a: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Yes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PE00542_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34131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a little windy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5362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Lovely weather, isn’t it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Yes. But a little windy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5880" y="2209680"/>
            <a:ext cx="26719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l1523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25146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1.  </a:t>
            </a: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a lovely day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  2.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a nice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4295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It’s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</a:rPr>
              <a:t>a fine day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, isn’t it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Look, he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’s fishing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34120" y="2214360"/>
            <a:ext cx="3433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0" name="l1522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4290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_______________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Look,____________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2" name="SO00483_" descr=""/>
          <p:cNvPicPr/>
          <p:nvPr/>
        </p:nvPicPr>
        <p:blipFill>
          <a:blip r:embed="rId1"/>
          <a:stretch/>
        </p:blipFill>
        <p:spPr>
          <a:xfrm>
            <a:off x="7696080" y="533520"/>
            <a:ext cx="1844640" cy="1066680"/>
          </a:xfrm>
          <a:prstGeom prst="rect">
            <a:avLst/>
          </a:prstGeom>
          <a:ln w="0">
            <a:noFill/>
          </a:ln>
        </p:spPr>
      </p:pic>
      <p:pic>
        <p:nvPicPr>
          <p:cNvPr id="323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3T13:35:59Z</dcterms:created>
  <dc:creator>jxh</dc:creator>
  <dc:description/>
  <dc:language>en-US</dc:language>
  <cp:lastModifiedBy>jxh</cp:lastModifiedBy>
  <dcterms:modified xsi:type="dcterms:W3CDTF">2001-12-23T15:17:58Z</dcterms:modified>
  <cp:revision>3</cp:revision>
  <dc:subject/>
  <dc:title>PowerPoint 演示文稿</dc:title>
</cp:coreProperties>
</file>